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76A-D5DF-4B81-8225-9539C3EA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0E35-5CC5-45DF-88C0-149C006C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164-B174-4CD7-B32B-DCC6DBCC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51C-2A44-4887-9480-1C63BC84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E7D3-5DB4-4370-9B74-B13CE965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15CB-C50A-4A05-94E8-AAEC6BA2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ED26-929A-4DD7-A643-3402AF0E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7F0-C253-4367-8A41-1CEF32C2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67D-1557-4D80-9DC2-2794A5EE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241-0D08-4508-81DD-474C32BB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FB50-2228-42B1-93AB-BE13D034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843-8073-401D-A62C-A1A99A09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9669-84FE-4C31-875A-2384D883DC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Maurice Krasner and Liam Gallinagh</a:t>
            </a:r>
            <a:br>
              <a:rPr sz="1400"/>
            </a:b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E Period</a:t>
            </a:r>
            <a:br>
              <a:rPr sz="1400"/>
            </a:b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4/3/2012</a:t>
            </a:r>
            <a:br>
              <a:rPr sz="1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 Routina Epica De Calcifer</a:t>
            </a:r>
            <a:br>
              <a:rPr sz="4400"/>
            </a:br>
            <a:r>
              <a:rPr b="0" lang="en-US" sz="800" spc="-1" strike="noStrike">
                <a:solidFill>
                  <a:srgbClr val="ffff99"/>
                </a:solidFill>
                <a:latin typeface="Arial"/>
              </a:rPr>
              <a:t>(With the additions of Howl, Chester, Socks, and Judy…his crew)</a:t>
            </a:r>
            <a:endParaRPr b="0" lang="en-US" sz="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3547800" cy="3886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3880" y="601992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llama Calcif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sperta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ifer se desperta a las seis y media por la m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l se levanta de la cama y corrid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0" y="320832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a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ña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ifer se b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ña con la lengua y cepilla con las patas. Se mira con el espej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984400" cy="3124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sayuna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ifer se desayuna a las siete por la m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ñan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enta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ifer se senta con sus amigos cuando se abur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95480" y="2257560"/>
            <a:ext cx="3432240" cy="4600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costa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20394600">
            <a:off x="6781320" y="4800240"/>
            <a:ext cx="2133720" cy="1589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1009200">
            <a:off x="228240" y="3048120"/>
            <a:ext cx="2514600" cy="146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144792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ifer se acosta por la noche y se dormir a las ocho por la noch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3:45:19Z</dcterms:created>
  <dc:creator>gallinaghlia</dc:creator>
  <dc:description/>
  <dc:language>en-US</dc:language>
  <cp:lastModifiedBy>gallinaghlia</cp:lastModifiedBy>
  <dcterms:modified xsi:type="dcterms:W3CDTF">2012-04-05T13:23:26Z</dcterms:modified>
  <cp:revision>4</cp:revision>
  <dc:subject/>
  <dc:title>Maurice Krasner and Liam Gallinagh E Period 4/3/2012 La Routina Epica De Calcifer (With the additions of Howl, Chester, Socks, and Judy…his crew)</dc:title>
</cp:coreProperties>
</file>